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6AA3-F76F-485D-9841-A390899D8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27FF-EF44-48B8-B8D7-3082FA0290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5 boxes across and 6 boxes down: total of 30 boxes.  Position: edge of table touches both left and right edge of slide.  Top of table is 1” from top of page and bottom is 1” from bottom of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 of colum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Literary term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Light in the Fores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ocabulary, Test Taking Strategies, and Anything Goes: all in Arial font, size 22 and all centered justified all in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seco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fifth column, $100 - $500 dollar amount: Arial font, size 28 and all centered justified all in orange. All hyperlink to different pages throughout slide show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al Jeopardy!! In text box, .67”  horizontal and 0” vertical from top left hand corner.  Font: Arial Black 48 point font in yellow-oran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 Jeopard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75” horizontally and 7” vertically from top left hand corner.  Arial font size 24, orange color.  Hyperlink to final Jeopardy page (last page of slide show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4114800"/>
            <a:ext cx="5639040" cy="327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914400" y="7467480"/>
            <a:ext cx="5334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earning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organization: 3.4: logically organized text: each piece is chunked into its own category.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ivation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each question gets harder as you go through, therefore, the students start off with the easier information and get a sense of accomplishmen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838080" y="7391520"/>
            <a:ext cx="5639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0188-AF9F-4F51-ADBC-FF23F8FBD4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837720" y="4343400"/>
            <a:ext cx="5334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1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838080" y="4267080"/>
            <a:ext cx="563904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838080" y="69343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 Motiv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there is immediate feedback to the students.  Setup in a game format making it more competitive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cep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rate of instruction is slow enough for students to determine the answer, yet quick enough so that they do not lose their focus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all objects are aligned: the wording to the left and the picture to the right, based on the last letter or number in the tit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838080" y="6934320"/>
            <a:ext cx="56390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185D-9347-41EF-AB69-69389FB550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2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4191120"/>
            <a:ext cx="563904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914400" y="7010280"/>
            <a:ext cx="5562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tiva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sitive Impres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5.2- Text on the page is kept to a minimum so that students wont be overwhelmed. Well organized and familiar with type size, style, etc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adable Style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- Passages are small and to the point. Wording is familiar and comfortable; not over their heads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peti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slides have the same style of text and the same background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ment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wording objects are aligned to the lef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838080" y="6934320"/>
            <a:ext cx="563904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937E-0508-4E52-B59F-099BA56E2A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F6D0-79B6-4008-8BBF-98EE8157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79B-C788-450E-AC87-B439C391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72D-FF81-4292-91E1-2B9F110D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A18-791E-46A6-8606-B7C7FCB3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E21E-D544-486C-8854-5625D6A1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14AD-37E0-4466-9A16-5F4DF564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1B1C-1D18-41F8-8486-977E8038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EE14-A9FE-43A7-91A3-DE49386D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F16D-5F97-4746-87CF-3EDA2667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053C-7BBF-4163-9A6F-F54FE101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D4EE-CC27-4086-B219-5DBECCE7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3D0-A23E-4805-87A2-BE52FAC6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7AF6-4D89-430A-9CCD-BBCEB675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5D28-3FF3-44CE-809B-8848F7F1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954C-7E6C-48BD-8687-070631B59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0DB7-5152-4737-9059-57700E74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219E-EDF6-498C-BBF0-48E41E4E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B52-BD3E-48FF-9937-7BDF17FE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245-F116-4BF2-939F-0FF94C4D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A2A0-E96D-4B63-894B-8A7FDE9C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A003-E7BD-4D5A-A9D7-F9D3249B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868-F91B-41D5-9B85-AD3FA6CB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F4E2-1D9C-4663-8FB5-04B182DE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376-DFEB-4668-9187-87018BF3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29E0-C039-4CD7-A99D-0CFBE2895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D9B6-A021-47EA-8075-7F5FAC6AAF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JEOPARD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14400"/>
          <a:ext cx="9144000" cy="5062680"/>
        </p:xfrm>
        <a:graphic>
          <a:graphicData uri="http://schemas.openxmlformats.org/drawingml/2006/table">
            <a:tbl>
              <a:tblPr/>
              <a:tblGrid>
                <a:gridCol w="1844640"/>
                <a:gridCol w="1924200"/>
                <a:gridCol w="1717560"/>
                <a:gridCol w="1843200"/>
                <a:gridCol w="1814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dustrial Revolu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ar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olocaust/ Ma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cient Geograp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urrent Ev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133"/>
          <p:cNvSpPr/>
          <p:nvPr/>
        </p:nvSpPr>
        <p:spPr>
          <a:xfrm>
            <a:off x="34290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8d43"/>
                </a:solidFill>
                <a:uFillTx/>
                <a:latin typeface="Arial"/>
                <a:hlinkClick r:id="rId26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global competition between the United States and the Soviet Union known a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66680" y="43434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Cold War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75720" y="4038480"/>
            <a:ext cx="1268280" cy="28195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914400" y="7747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ars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did the Soviet Union collapse (1789, 1991, 2001) and what type of economic system did the Soviet Union ha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066680" y="45720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991and Communism?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13600" y="4343400"/>
            <a:ext cx="1130400" cy="25146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14400" y="7747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ars -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867960"/>
            <a:ext cx="74678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locaust/Maps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azi’s plan to kill all European Jews known 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66680" y="373392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, “Final Solution?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124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locaust/ Maps- $2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term known as when an entire group of people is wiped ou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219320" y="37339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enoci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48096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locaust/ Maps - $300 (Daily Double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90720" y="553392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5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3"/>
          <a:stretch/>
        </p:blipFill>
        <p:spPr>
          <a:xfrm>
            <a:off x="0" y="609480"/>
            <a:ext cx="8626320" cy="6248520"/>
          </a:xfrm>
          <a:prstGeom prst="rect">
            <a:avLst/>
          </a:prstGeom>
          <a:ln w="0">
            <a:noFill/>
          </a:ln>
        </p:spPr>
      </p:pic>
      <p:sp>
        <p:nvSpPr>
          <p:cNvPr id="204" name="TextBox 8"/>
          <p:cNvSpPr/>
          <p:nvPr/>
        </p:nvSpPr>
        <p:spPr>
          <a:xfrm>
            <a:off x="252216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9"/>
          <p:cNvSpPr/>
          <p:nvPr/>
        </p:nvSpPr>
        <p:spPr>
          <a:xfrm>
            <a:off x="1984680" y="441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Box 10"/>
          <p:cNvSpPr/>
          <p:nvPr/>
        </p:nvSpPr>
        <p:spPr>
          <a:xfrm>
            <a:off x="3279960" y="29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11"/>
          <p:cNvSpPr/>
          <p:nvPr/>
        </p:nvSpPr>
        <p:spPr>
          <a:xfrm>
            <a:off x="419400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Box 12"/>
          <p:cNvSpPr/>
          <p:nvPr/>
        </p:nvSpPr>
        <p:spPr>
          <a:xfrm>
            <a:off x="3809880" y="3124080"/>
            <a:ext cx="5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Box 13"/>
          <p:cNvSpPr/>
          <p:nvPr/>
        </p:nvSpPr>
        <p:spPr>
          <a:xfrm>
            <a:off x="3660480" y="403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568440"/>
            <a:ext cx="86868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Holocaust/ Maps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95280" y="533412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5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3"/>
          <a:stretch/>
        </p:blipFill>
        <p:spPr>
          <a:xfrm>
            <a:off x="228600" y="0"/>
            <a:ext cx="837252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2522160" y="457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3661200" y="304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4727880" y="1600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Box 9"/>
          <p:cNvSpPr/>
          <p:nvPr/>
        </p:nvSpPr>
        <p:spPr>
          <a:xfrm>
            <a:off x="228888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10"/>
          <p:cNvSpPr/>
          <p:nvPr/>
        </p:nvSpPr>
        <p:spPr>
          <a:xfrm>
            <a:off x="3813120" y="2514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1"/>
          <p:cNvSpPr/>
          <p:nvPr/>
        </p:nvSpPr>
        <p:spPr>
          <a:xfrm>
            <a:off x="3660480" y="4038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12"/>
          <p:cNvSpPr/>
          <p:nvPr/>
        </p:nvSpPr>
        <p:spPr>
          <a:xfrm>
            <a:off x="487980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78912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olocaust/ Maps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752480" y="548640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map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6019560" cy="2786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Photo 1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2920" y="4606920"/>
            <a:ext cx="19810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average number of people living in a square mile  or square kilometer known 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066680" y="44956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population densit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Renaissance invention made books more numerous and less expensive, thereby encouraging more people to learn to read and wri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66680" y="4952880"/>
            <a:ext cx="6019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imes New Roman"/>
              </a:rPr>
              <a:t>What is the printing press?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lines measure north and south of the equator?  (Example: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˚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, 78˚W is the absolute location of Bedford, P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143000" y="4648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lines of Latitud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3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81900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dustrial Revolution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did the Industrial Revolution beg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52480" y="3581280"/>
            <a:ext cx="297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reat Britain or England?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ugly-pig-new2.pn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638680" y="4522680"/>
            <a:ext cx="350532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 the 4 of the 5 counties that surround Bedfor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143000" y="3505320"/>
            <a:ext cx="5791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omerset, Cambria, Blair, Huntingdon, and Fult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990720" y="8348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 - $4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2" name="Picture 5" descr="funny-pictures-ugly-hog-1J7.jpg"/>
          <p:cNvPicPr/>
          <p:nvPr/>
        </p:nvPicPr>
        <p:blipFill>
          <a:blip r:embed="rId2"/>
          <a:stretch/>
        </p:blipFill>
        <p:spPr>
          <a:xfrm>
            <a:off x="7010280" y="3968640"/>
            <a:ext cx="2133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ce the following events in order:  Renaissance, World War 2, Ancient Greece/ Rome, Middle 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990720" y="3733920"/>
            <a:ext cx="71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cient Greece/ Rome, Middle Ages, Renaissance, World War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5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6" name="Picture 5" descr="piglip.jpg"/>
          <p:cNvPicPr/>
          <p:nvPr/>
        </p:nvPicPr>
        <p:blipFill>
          <a:blip r:embed="rId2"/>
          <a:stretch/>
        </p:blipFill>
        <p:spPr>
          <a:xfrm>
            <a:off x="6781680" y="4240080"/>
            <a:ext cx="236232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1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week, the Obama Administration will change travel rules to make it easier for Americans to visit what communist nation located 90 miles awa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295280" y="533412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Cub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19112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number one film at the box office last weekend:  Another Year, The Green Hornet, The Rit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066680" y="487692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Ri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ame both Super Bowl starting quarterback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1148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is Roethlisberger and Rodger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nation did drug violence recently result in 27 people dying in one weekend in the resort city of Acapulc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66680" y="434340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exic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alex_no_stash_no_background"/>
          <p:cNvPicPr/>
          <p:nvPr/>
        </p:nvPicPr>
        <p:blipFill>
          <a:blip r:embed="rId1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st Friday marked the 2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niversary of what shuttle explosion that took the lives of seven astronaut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447920" y="4724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alleng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5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al Jeopar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a thesis statement out of the questions below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609480" y="350532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True Son was frightened to return to the Butler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426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dustrial Revolution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did the Industrial Revolution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. 300s               C. 17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. 1500s             D. 1900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95280" y="48769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1700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alex_no_stash_no_background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924680" y="4186080"/>
            <a:ext cx="12002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252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Industrial Revolution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ildren as young as age seven worked how many hours per day and how many days a week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449568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12 to 15 hours a day, six days a wee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6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45280" y="4419720"/>
            <a:ext cx="109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41904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dustrial Revolution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ll in the blanks.  The Industrial Revolution was a time when people used _________ and new methods to increase ______________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6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82000" y="4495680"/>
            <a:ext cx="1062000" cy="23623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6"/>
          <p:cNvSpPr/>
          <p:nvPr/>
        </p:nvSpPr>
        <p:spPr>
          <a:xfrm>
            <a:off x="1536840" y="4343400"/>
            <a:ext cx="464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chinery, Productiv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48780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Industrial Revolution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 the invention by James Watt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3733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Steam Engi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ugly+pig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56520" y="4495680"/>
            <a:ext cx="2787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743040"/>
            <a:ext cx="777240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Wars -$10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What war began in 1914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95280" y="502920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WW I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50400" y="4648320"/>
            <a:ext cx="9936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 was blamed for starting both World War I and World War I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43434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German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Picture 5" descr="alex_no_stash_no_background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73840" y="3809880"/>
            <a:ext cx="1370160" cy="30481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914400" y="7747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ars - $200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ich nation lost the most lives in World War 2? 27 million were kille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371600" y="38862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Soviet Uni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alex_no_stash_no_backgroun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15480" y="4572000"/>
            <a:ext cx="102852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914400" y="77472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Wars 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8:01:04Z</dcterms:created>
  <dc:creator>Student</dc:creator>
  <dc:description/>
  <dc:language>en-US</dc:language>
  <cp:lastModifiedBy>Tom Otis</cp:lastModifiedBy>
  <dcterms:modified xsi:type="dcterms:W3CDTF">2011-02-03T20:17:58Z</dcterms:modified>
  <cp:revision>63</cp:revision>
  <dc:subject/>
  <dc:title>Jeopardy</dc:title>
</cp:coreProperties>
</file>